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6B4F-F477-43DD-A2DC-5DF16AA48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97A3-BD6B-4987-AFC7-A09F5D2AF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A238-ED00-407E-9C62-61729B48A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30EAE-03B2-4219-A513-02B7E18672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5C89-0947-4BEA-B529-627ADFDADA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3E4C-464E-4B0F-B302-946663BAD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1985-2C14-4D5E-B024-E1AD18A35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83A4-A5F1-4EDC-BD2F-7263F868B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1AD3-7651-4640-A768-23563C176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F362-002C-4637-A04B-85DF0E1C6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872D-559B-4C21-A02A-E90F7CDFA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5573-FB91-4F0C-A474-E705BD3E3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5680" y="6392520"/>
            <a:ext cx="306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1FEA-9BF4-461E-924B-74FFE2F54CF1}" type="slidenum">
              <a:rPr b="0" lang="en-US" sz="1200" spc="-1" strike="noStrike">
                <a:solidFill>
                  <a:srgbClr val="898989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-133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419040" y="922320"/>
            <a:ext cx="1244520" cy="48744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1006560" y="2479680"/>
            <a:ext cx="174600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1530360" y="3851280"/>
            <a:ext cx="4098960" cy="473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1616040" y="5060880"/>
            <a:ext cx="2460600" cy="47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6"/>
          <a:stretch/>
        </p:blipFill>
        <p:spPr>
          <a:xfrm>
            <a:off x="249120" y="6080040"/>
            <a:ext cx="4179960" cy="484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1063800" y="1608120"/>
            <a:ext cx="2844720" cy="49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3970440" y="865080"/>
            <a:ext cx="1353960" cy="447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5829480" y="1746360"/>
            <a:ext cx="2743200" cy="45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0"/>
          <a:stretch/>
        </p:blipFill>
        <p:spPr>
          <a:xfrm>
            <a:off x="3881520" y="2336760"/>
            <a:ext cx="458604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1"/>
          <a:stretch/>
        </p:blipFill>
        <p:spPr>
          <a:xfrm>
            <a:off x="5749920" y="3008160"/>
            <a:ext cx="2708280" cy="46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2"/>
          <a:stretch/>
        </p:blipFill>
        <p:spPr>
          <a:xfrm>
            <a:off x="4916520" y="4470480"/>
            <a:ext cx="156996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3"/>
          <a:stretch/>
        </p:blipFill>
        <p:spPr>
          <a:xfrm>
            <a:off x="5840280" y="5451480"/>
            <a:ext cx="1341720" cy="447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4"/>
          <a:stretch/>
        </p:blipFill>
        <p:spPr>
          <a:xfrm>
            <a:off x="7112160" y="3841920"/>
            <a:ext cx="1560240" cy="482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5"/>
          <a:stretch/>
        </p:blipFill>
        <p:spPr>
          <a:xfrm>
            <a:off x="5599080" y="6108840"/>
            <a:ext cx="244008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6"/>
          <a:stretch/>
        </p:blipFill>
        <p:spPr>
          <a:xfrm>
            <a:off x="299880" y="3162240"/>
            <a:ext cx="3310200" cy="4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ip Fletcher</dc:creator>
  <dc:description/>
  <cp:keywords/>
  <dc:language>en-US</dc:language>
  <cp:lastModifiedBy>John Cook</cp:lastModifiedBy>
  <dcterms:modified xsi:type="dcterms:W3CDTF">2011-01-28T08:38:41Z</dcterms:modified>
  <cp:revision>1</cp:revision>
  <dc:subject/>
  <dc:title>Slide 1</dc:title>
</cp:coreProperties>
</file>