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273E-EB1B-460E-A5E8-76D875C2F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BBE6-A535-4719-B5A5-2D13BCCBD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0DAD-5CBF-4375-9E05-2E4D6416B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C8DD-D303-4F41-B611-248A45AB69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14F54-7714-4888-BE81-A6DCC9E636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C2E0-653F-4BD2-B319-9E42621C3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DCE5-8143-4F07-98C6-DE73E4036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E131-7506-4D7E-A73E-D8ADAD87E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51D8-D068-41DF-A6E8-AEAD96449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7E63-8F38-48BB-B477-AA6317EF6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28D12-5CE9-4574-B08B-99B1EF756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1409-0534-448E-83F8-E3EF264C3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5680" y="6392520"/>
            <a:ext cx="306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209E-6500-416B-8C2F-C6AE4CFE503F}" type="slidenum">
              <a:rPr b="0" lang="en-US" sz="1200" spc="-1" strike="noStrike">
                <a:solidFill>
                  <a:srgbClr val="898989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-1332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419040" y="922320"/>
            <a:ext cx="1244520" cy="48744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1006560" y="2479680"/>
            <a:ext cx="174600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1530360" y="3851280"/>
            <a:ext cx="4098960" cy="473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1616040" y="5060880"/>
            <a:ext cx="2460600" cy="47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6"/>
          <a:stretch/>
        </p:blipFill>
        <p:spPr>
          <a:xfrm>
            <a:off x="249120" y="6080040"/>
            <a:ext cx="4179960" cy="484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1063800" y="1608120"/>
            <a:ext cx="2844720" cy="496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8"/>
          <a:stretch/>
        </p:blipFill>
        <p:spPr>
          <a:xfrm>
            <a:off x="3970440" y="865080"/>
            <a:ext cx="1353960" cy="447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9"/>
          <a:stretch/>
        </p:blipFill>
        <p:spPr>
          <a:xfrm>
            <a:off x="5829480" y="1746360"/>
            <a:ext cx="2743200" cy="45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0"/>
          <a:stretch/>
        </p:blipFill>
        <p:spPr>
          <a:xfrm>
            <a:off x="3881520" y="2336760"/>
            <a:ext cx="458604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1"/>
          <a:stretch/>
        </p:blipFill>
        <p:spPr>
          <a:xfrm>
            <a:off x="5749920" y="3008160"/>
            <a:ext cx="2708280" cy="46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2"/>
          <a:stretch/>
        </p:blipFill>
        <p:spPr>
          <a:xfrm>
            <a:off x="4916520" y="4470480"/>
            <a:ext cx="1569960" cy="457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3"/>
          <a:stretch/>
        </p:blipFill>
        <p:spPr>
          <a:xfrm>
            <a:off x="5840280" y="5451480"/>
            <a:ext cx="1341720" cy="447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4"/>
          <a:stretch/>
        </p:blipFill>
        <p:spPr>
          <a:xfrm>
            <a:off x="7112160" y="3841920"/>
            <a:ext cx="1560240" cy="482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5"/>
          <a:stretch/>
        </p:blipFill>
        <p:spPr>
          <a:xfrm>
            <a:off x="5599080" y="6108840"/>
            <a:ext cx="244008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6"/>
          <a:stretch/>
        </p:blipFill>
        <p:spPr>
          <a:xfrm>
            <a:off x="299880" y="3162240"/>
            <a:ext cx="3310200" cy="4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ip Fletcher</dc:creator>
  <dc:description/>
  <cp:keywords/>
  <dc:language>en-US</dc:language>
  <cp:lastModifiedBy>John Cook</cp:lastModifiedBy>
  <dcterms:modified xsi:type="dcterms:W3CDTF">2011-01-28T08:38:41Z</dcterms:modified>
  <cp:revision>1</cp:revision>
  <dc:subject/>
  <dc:title>Slide 1</dc:title>
</cp:coreProperties>
</file>