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9C406-D074-42AD-BECA-D8F5C48231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59F03-1DCF-409A-9C00-F6DB39B995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19796-DEB0-4AF5-97A3-13A367B1FC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566FF-2C2D-4F0F-A3BF-65A957F45D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470F1-ABAF-407D-AD72-9FC4437B83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18570-F1CF-4AE1-B05B-EA172C3737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72160-9486-48C7-8BD4-E8C6759114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9B74B-D900-4FD4-AFCB-07B9B65901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B2C88-FD46-4090-A3CA-64C6CA72EB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9C7D6-D4E7-41FE-898C-85F9F445E3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704DA-487A-445B-B83F-B80DEB23FB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B1760-5BCC-408A-B0B4-B304B94BEA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65680" y="6392520"/>
            <a:ext cx="3063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Lucida Grand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ABBAA-5ED1-4E52-B543-E0BD93005D36}" type="slidenum">
              <a:rPr b="0" lang="en-US" sz="1200" spc="-1" strike="noStrike">
                <a:solidFill>
                  <a:srgbClr val="898989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-1332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419040" y="922320"/>
            <a:ext cx="1244520" cy="48744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1006560" y="2479680"/>
            <a:ext cx="1746000" cy="476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1530360" y="3851280"/>
            <a:ext cx="4098960" cy="4730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5"/>
          <a:stretch/>
        </p:blipFill>
        <p:spPr>
          <a:xfrm>
            <a:off x="1616040" y="5060880"/>
            <a:ext cx="2460600" cy="474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6"/>
          <a:stretch/>
        </p:blipFill>
        <p:spPr>
          <a:xfrm>
            <a:off x="249120" y="6080040"/>
            <a:ext cx="4179960" cy="484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7"/>
          <a:stretch/>
        </p:blipFill>
        <p:spPr>
          <a:xfrm>
            <a:off x="1063800" y="1608120"/>
            <a:ext cx="2844720" cy="496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8"/>
          <a:stretch/>
        </p:blipFill>
        <p:spPr>
          <a:xfrm>
            <a:off x="3970440" y="865080"/>
            <a:ext cx="1353960" cy="447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9"/>
          <a:stretch/>
        </p:blipFill>
        <p:spPr>
          <a:xfrm>
            <a:off x="5829480" y="1746360"/>
            <a:ext cx="2743200" cy="450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10"/>
          <a:stretch/>
        </p:blipFill>
        <p:spPr>
          <a:xfrm>
            <a:off x="3881520" y="2336760"/>
            <a:ext cx="458604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11"/>
          <a:stretch/>
        </p:blipFill>
        <p:spPr>
          <a:xfrm>
            <a:off x="5749920" y="3008160"/>
            <a:ext cx="2708280" cy="465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2"/>
          <a:stretch/>
        </p:blipFill>
        <p:spPr>
          <a:xfrm>
            <a:off x="4916520" y="4470480"/>
            <a:ext cx="1569960" cy="457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3"/>
          <a:stretch/>
        </p:blipFill>
        <p:spPr>
          <a:xfrm>
            <a:off x="5840280" y="5451480"/>
            <a:ext cx="1341720" cy="447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4"/>
          <a:stretch/>
        </p:blipFill>
        <p:spPr>
          <a:xfrm>
            <a:off x="7112160" y="3841920"/>
            <a:ext cx="1560240" cy="482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5"/>
          <a:stretch/>
        </p:blipFill>
        <p:spPr>
          <a:xfrm>
            <a:off x="5599080" y="6108840"/>
            <a:ext cx="2440080" cy="465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6"/>
          <a:stretch/>
        </p:blipFill>
        <p:spPr>
          <a:xfrm>
            <a:off x="299880" y="3162240"/>
            <a:ext cx="3310200" cy="46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ip Fletcher</dc:creator>
  <dc:description/>
  <cp:keywords/>
  <dc:language>en-US</dc:language>
  <cp:lastModifiedBy>John Cook</cp:lastModifiedBy>
  <dcterms:modified xsi:type="dcterms:W3CDTF">2011-01-28T08:38:24Z</dcterms:modified>
  <cp:revision>1</cp:revision>
  <dc:subject/>
  <dc:title>Slide 1</dc:title>
</cp:coreProperties>
</file>