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45DF1-153D-4782-A58E-39F99389A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781C-885B-4912-961D-1B6A2010F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3A5D-D9FA-4067-939B-EBFB90FB3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3B75-F3DF-474C-B22E-E9C145CE7A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D6FF-8C51-4284-AAFF-4CE5AB668C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F032-71B0-4E60-950A-2BF9E053E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EC23-0BA2-4DD1-8AA9-2CEC7FF4E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A30A-46EE-4A7C-900C-474FBE4A5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25BA-5C6A-44D8-8EA2-94610DEE1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C3D7-62E4-445F-8F0B-F4FB76601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10BA-7AD0-491D-B5E5-69EB8165F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81F8-0478-474B-B1FC-8D9CD4931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5680" y="639252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A1E7-6E8B-45AD-AAD5-F9C713F6DB67}" type="slidenum">
              <a:rPr b="0" lang="en-US" sz="1200" spc="-1" strike="noStrike">
                <a:solidFill>
                  <a:srgbClr val="898989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-1332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19040" y="922320"/>
            <a:ext cx="1244520" cy="4874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1006560" y="2479680"/>
            <a:ext cx="174600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1530360" y="3851280"/>
            <a:ext cx="4098960" cy="473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1616040" y="5060880"/>
            <a:ext cx="2460600" cy="47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249120" y="6080040"/>
            <a:ext cx="4179960" cy="484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1063800" y="1608120"/>
            <a:ext cx="2844720" cy="49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3970440" y="865080"/>
            <a:ext cx="1353960" cy="447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9"/>
          <a:stretch/>
        </p:blipFill>
        <p:spPr>
          <a:xfrm>
            <a:off x="5829480" y="1746360"/>
            <a:ext cx="2743200" cy="45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10"/>
          <a:stretch/>
        </p:blipFill>
        <p:spPr>
          <a:xfrm>
            <a:off x="3881520" y="2336760"/>
            <a:ext cx="458604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1"/>
          <a:stretch/>
        </p:blipFill>
        <p:spPr>
          <a:xfrm>
            <a:off x="5749920" y="3008160"/>
            <a:ext cx="2708280" cy="46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2"/>
          <a:stretch/>
        </p:blipFill>
        <p:spPr>
          <a:xfrm>
            <a:off x="4916520" y="4470480"/>
            <a:ext cx="1569960" cy="457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3"/>
          <a:stretch/>
        </p:blipFill>
        <p:spPr>
          <a:xfrm>
            <a:off x="5840280" y="5451480"/>
            <a:ext cx="134172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7112160" y="3841920"/>
            <a:ext cx="1560240" cy="482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5"/>
          <a:stretch/>
        </p:blipFill>
        <p:spPr>
          <a:xfrm>
            <a:off x="5599080" y="6108840"/>
            <a:ext cx="244008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6"/>
          <a:stretch/>
        </p:blipFill>
        <p:spPr>
          <a:xfrm>
            <a:off x="299880" y="3162240"/>
            <a:ext cx="3310200" cy="4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ip Fletcher</dc:creator>
  <dc:description/>
  <cp:keywords/>
  <dc:language>en-US</dc:language>
  <cp:lastModifiedBy>John Cook</cp:lastModifiedBy>
  <dcterms:modified xsi:type="dcterms:W3CDTF">2011-01-28T08:38:24Z</dcterms:modified>
  <cp:revision>1</cp:revision>
  <dc:subject/>
  <dc:title>Slide 1</dc:title>
</cp:coreProperties>
</file>